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269-B5B1-441B-9CD7-111E3CA1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234-D13C-4607-A4F7-1932D39F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E04-40D4-4A97-8DA7-016A651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229-C75E-4B75-A731-1BE93BE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EBB-B079-4BEC-970A-6DEC8DE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4FC-DCDC-4EFB-89A3-5EB4E2A7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546-FAD7-4494-B1D5-1C7F254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EBF-13AE-415C-AD04-8882D90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70D-D32B-4389-8054-604E6220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26B-8F98-49CE-9160-FBDFDF8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527-9832-4647-94F8-909745B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D07-A840-4083-8E80-67D0E34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E481-C47B-4C88-8232-E20235F4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63680" y="3906720"/>
            <a:ext cx="2884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Randolf Caldecott was considered by many to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be the best illustrator of children’s books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nthe world. So much so that in the USA, ther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s a prize given every year, the </a:t>
            </a:r>
            <a:r>
              <a:rPr b="0" lang="en-US" sz="700" spc="-1" strike="noStrike" u="sng">
                <a:solidFill>
                  <a:srgbClr val="808080"/>
                </a:solidFill>
                <a:uFillTx/>
                <a:latin typeface="'Palatino Linotype'"/>
              </a:rPr>
              <a:t>Caldecott Medal</a:t>
            </a: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,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for the illustrator who produces what th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judges consider to be the best illustrated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children’s book of that year.</a:t>
            </a:r>
            <a:r>
              <a:rPr b="0" lang="en-US" sz="700" spc="-1" strike="noStrike">
                <a:solidFill>
                  <a:srgbClr val="808080"/>
                </a:solidFill>
                <a:latin typeface="'Palatino Linotype'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empShape.PNG"/>
          <p:cNvPicPr/>
          <p:nvPr/>
        </p:nvPicPr>
        <p:blipFill>
          <a:blip r:embed="rId2"/>
          <a:stretch/>
        </p:blipFill>
        <p:spPr>
          <a:xfrm>
            <a:off x="485640" y="28440"/>
            <a:ext cx="267336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empShape.PNG"/>
          <p:cNvPicPr/>
          <p:nvPr/>
        </p:nvPicPr>
        <p:blipFill>
          <a:blip r:embed="rId3"/>
          <a:stretch/>
        </p:blipFill>
        <p:spPr>
          <a:xfrm>
            <a:off x="3660840" y="71280"/>
            <a:ext cx="24987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Shape.PNG"/>
          <p:cNvPicPr/>
          <p:nvPr/>
        </p:nvPicPr>
        <p:blipFill>
          <a:blip r:embed="rId2"/>
          <a:stretch/>
        </p:blipFill>
        <p:spPr>
          <a:xfrm>
            <a:off x="2279520" y="449280"/>
            <a:ext cx="619632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17440" y="949320"/>
            <a:ext cx="19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e Caldecott Medal is based on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is illustration by Randolf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Caldecott.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2160" y="20937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The illustration on the Caldecott Medal,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which is taken from Caldecott's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illustrations for "The Diverting Story of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John Gilpin," is a perfect example of the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umor, vitality, and sense of movement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found in Caldecott's work. The illustration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shows John Gilpin astride a runaway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orse, accompanied by squawking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geese, braying dogs, and startled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onlookers.</a:t>
            </a:r>
            <a:r>
              <a:rPr b="0" lang="en-US" sz="600" spc="-1" strike="noStrike">
                <a:solidFill>
                  <a:srgbClr val="808080"/>
                </a:solidFill>
                <a:latin typeface="'Palatino Linotype'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empShape.PNG"/>
          <p:cNvPicPr/>
          <p:nvPr/>
        </p:nvPicPr>
        <p:blipFill>
          <a:blip r:embed="rId2"/>
          <a:stretch/>
        </p:blipFill>
        <p:spPr>
          <a:xfrm>
            <a:off x="449280" y="44928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516640" y="808200"/>
            <a:ext cx="212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What do you see on the Caldecott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Medal?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Look at the medal for 60 seconds,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then cover it up.  See how many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elements of the design you can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emember!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 MCPS user</cp:lastModifiedBy>
  <dcterms:modified xsi:type="dcterms:W3CDTF">2012-01-23T23:53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